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34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47.jpeg" ContentType="image/jpeg"/>
  <Override PartName="/ppt/media/image42.jpeg" ContentType="image/jpeg"/>
  <Override PartName="/ppt/media/image19.jpeg" ContentType="image/jpeg"/>
  <Override PartName="/ppt/media/image4.jpeg" ContentType="image/jpeg"/>
  <Override PartName="/ppt/media/image8.wmf" ContentType="image/x-wmf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2.png" ContentType="image/png"/>
  <Override PartName="/ppt/media/image24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61.wmf" ContentType="image/x-wmf"/>
  <Override PartName="/ppt/media/image15.jpeg" ContentType="image/jpeg"/>
  <Override PartName="/ppt/media/image63.wmf" ContentType="image/x-wmf"/>
  <Override PartName="/ppt/media/image23.png" ContentType="image/png"/>
  <Override PartName="/ppt/media/image26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4.wmf" ContentType="image/x-wmf"/>
  <Override PartName="/ppt/media/image59.wmf" ContentType="image/x-wmf"/>
  <Override PartName="/ppt/media/image7.wmf" ContentType="image/x-wmf"/>
  <Override PartName="/ppt/media/image6.wmf" ContentType="image/x-wmf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51.wmf" ContentType="image/x-wmf"/>
  <Override PartName="/ppt/media/image12.jpeg" ContentType="image/jpeg"/>
  <Override PartName="/ppt/media/image29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39.jpeg" ContentType="image/jpeg"/>
  <Override PartName="/ppt/media/image43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336-667C-4EDB-90F8-B0FA7851718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2646-EF6C-428B-AAA4-4A893131774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7AD9-B96D-4319-B2DA-4BD5924213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A69-23BB-4F6B-B08F-C2A5B52484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5E72-C85B-4018-AE42-F76B53A4495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6FCE-9300-40BE-BEB4-E1CC02C272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4742-FBC6-46A5-ABBF-5BBF975CC99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E84-B45E-4A8B-B0A0-C9C3B5D47C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59F-6ADA-4F2A-8FCE-84BFC7F533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98D-0739-40DC-B3CD-FEFAC17CBB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745C-065B-4C8A-AF6D-4475BA06B89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608A-BA5E-422B-8320-199A52C8075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4BB-4033-472D-8C99-C9D1B0BC42C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C72-2459-4176-A1B9-55432179A8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6E2-19DE-448F-A25F-032921D9FF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97BC-8BC9-43E1-9F6E-3885D3A6D84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399F-9771-42AD-B75F-2E3160ED01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C72-771B-49E2-B6EF-F26D97BC03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B851-E410-46F7-BA58-3EC1F6BA5B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1EC-F015-4417-BACC-45A7448AF9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82A2-B500-40F7-AB62-201490E0C0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2673-CD50-4378-B37E-A34FFA629C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B14-AC08-4981-96BF-97DD2FABC6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9683-EE6A-4EB6-8FA1-2BF06013E0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CB0-93A0-4F3E-8BDB-7FE9D6A818F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D22-B88D-4781-91BD-5D8B0A0AB2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97F-C332-4F10-AB46-13BAB10441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AEE-C493-4489-B6CD-F885B6464F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B8F1-C65E-4087-96E8-E7CEF79ED1F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9C1B-9C94-4968-A3B8-3175421269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3F2C-1D58-4C89-B5FB-60DB0C95C74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F387-BDB9-4DE6-B5E3-CDC81536E8B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511F-DE7F-44A1-AAA8-E3832486CC0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FA0-D597-4964-9CED-82CA42D2291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454-803F-464B-9EEA-18447F1AF63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3A15-3866-453A-864B-7E5ABA79DF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780-9048-4826-B940-F0763FBF36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6D4-C77C-4BF2-92B1-1960FD13D5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2115-EF9E-4F05-81A6-E4A28CAC3B5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25EC-3140-4E9C-B5BA-2628BEA3EC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C6F-F7B3-437C-98AB-8179742964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629-F085-47F7-9905-A891AE8807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AD0-2DE5-4103-B337-73FFAE9F502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EE4D-6FCA-4239-9EDD-E457CD1D8B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DD9-F6B7-481E-97D0-49A252E45F5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854-E376-498F-845B-AB0A994207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2425-4F2C-4405-B9BC-EB33D4BC05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0DE-500E-498D-B313-AD49CAC812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0CF-2CF3-41BF-A3A2-4D44007412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3DC-4178-4F0A-9407-9B89065F9F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E0D-D68E-4D6A-AD56-697C21A827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3D1-4B72-4ADA-AE9E-0CFC365B7E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9AC-CA9C-44F8-9EBD-3B29ECE6A9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F95-1537-4608-9B87-165562F180E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4E2D-D2A4-4552-8894-CCB1BC8FA7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EE2-26E5-4950-A516-EA9DB80A17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7A0-CDAA-44AF-8D9F-99A0603CC28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036-A962-4554-9496-ECE7F32EB72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332-1FC9-489A-BD7D-166706DD7BC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5BE-A067-412F-82F4-D70DF34DFAC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B90A-6EFC-4DBA-9642-8B78857362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1AD-0341-4118-9E85-D2A91228F5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D0C-740A-41E6-A38E-6A92595894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F71-7D49-4773-BBD5-B8B13C6B8F1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4301-66A1-4D09-B38E-24AAC6A93DB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DB78-A8D7-407F-8F82-7EA0BF124E6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1B3-D41E-4E0C-AC46-4CFEFAF7670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BEA-B735-447C-8BDF-0E58310DA92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2F0-3723-4AAB-BA87-02DD2CA7D9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8DCA-82EC-4219-B81B-D0586E1323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1D6-063B-4EF2-B844-AA5C0066B82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EDD-D250-48EE-BCBD-C0E3F712AF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113-0D06-4124-A5BB-17C82AD4BE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0CE-61D2-4DEA-85E6-9D90AA380FE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A13-A827-4712-B708-52D69EBE49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793-B05A-4A9C-83C7-9A6087C7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824-038F-4CC8-BC02-2C4858CC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0B7-CCE9-4DA6-AB8C-3A7413CA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7EF-50CE-48E6-B1DE-C41F68F4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605-1629-46B3-A6EB-2EC58AF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456-42E6-40ED-A5EF-E8FDFD2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72D-057C-41FB-AA57-46177AA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527-3682-4CAD-A839-6174210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567-255B-4882-8A0B-236B643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DA9-B5C7-4A1A-90BE-3DA4A68A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8BA-125F-4FCC-ABA5-7A0B685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7AE-8F8B-4116-918D-368E7DC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aixa1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-Bol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704-9D8A-4295-AD05-835921EE7BE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faixa3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pic>
        <p:nvPicPr>
          <p:cNvPr id="51" name="Picture 4" descr="faixa curso plano hab"/>
          <p:cNvPicPr/>
          <p:nvPr/>
        </p:nvPicPr>
        <p:blipFill>
          <a:blip r:embed="rId1"/>
          <a:stretch/>
        </p:blipFill>
        <p:spPr>
          <a:xfrm>
            <a:off x="0" y="0"/>
            <a:ext cx="9144000" cy="415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gos Plano Hab"/>
          <p:cNvPicPr/>
          <p:nvPr/>
        </p:nvPicPr>
        <p:blipFill>
          <a:blip r:embed="rId2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979640" y="443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Frutiger-Bold"/>
              </a:rPr>
              <a:t>São Paulo, 19 e 20 de junh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utiger-Bold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640" y="12679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Redução da carga tributária sobre o processo de construção da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 de métodos de racionalização da construção  e produção em escal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Estímulo à auto-gest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Revisão da legislação de uso e ocupação do solo e Código de Obra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rocedimentos de crédito e financiamento ágeis e desburocratiz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rocedimento de aprovação de projetos desburocratizad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95280" y="432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Barateament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e qualificação  da p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36360" y="112392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Criação do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Sistema Nacional de Habitação</a:t>
            </a: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distinguindo a ação pública da privada através de dois subsistemas: Habitação de Interesse Social e Habitação de Mercado.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Viabilização de fontes permanentes e estáveis de recursos privados e públic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Ampliação da captação de recursos privados desonerando o poder público do atendimento a classe média.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Garantia de segurança jurídica ao investidor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Potencializar a utilização do FGTS para financiamento habitacional e subsídio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Criação de fontes permanentes de recursos não onerosos para garantir o subsídio – FNHI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Provisão de mix de recursos onerosos e não onerosos, de 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Frutiger 55 Roman"/>
              </a:rPr>
              <a:t>modo a atingir parcela da população de baixa renda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1640" y="114480"/>
            <a:ext cx="82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bilizaçã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00000" y="5877000"/>
            <a:ext cx="9109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Tendências  recentes a partir de</a:t>
            </a:r>
            <a:r>
              <a:rPr b="1" lang="pt-BR" sz="3600" spc="-1" strike="noStrike">
                <a:solidFill>
                  <a:srgbClr val="000000"/>
                </a:solidFill>
                <a:latin typeface="Frutiger-Bold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2004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investimentos em saneamento são retomad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pliação dos investimentos em habitação, tanto dos recursos do FGTS como do SBP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do CMN (2005) obrigando os bancos a investir em habitação os recursos da poupança (SBPE) e ampliando os recursos para o mercado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i Federal 10.391/2004 dá garantias e segurança jurídica ao investi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Tendências recentes (2004-2006)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54728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689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usca de adequar o financiamento a faixas de renda mais baixa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153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pliação do orçamento do FGT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1536"/>
              </a:spcBef>
              <a:spcAft>
                <a:spcPts val="28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460/2005, amplia os recursos do FGTS para subsídiar a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ndo Nacional de Habitação de Interesse Social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 de Aceleração do Crescimento PAC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just">
              <a:lnSpc>
                <a:spcPct val="77000"/>
              </a:lnSpc>
              <a:spcBef>
                <a:spcPts val="975"/>
              </a:spcBef>
              <a:spcAft>
                <a:spcPts val="5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tirada do saneamento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 calculo do superávit primár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440" y="4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Frutiger-Bold"/>
              </a:rPr>
              <a:t>Evolução e tendências dos recursos não onerosos para habitação e urbanização de assentamentos precários</a:t>
            </a:r>
            <a:endParaRPr b="0" lang="en-US" sz="26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900000" y="1406520"/>
          <a:ext cx="67104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06520"/>
                    <a:ext cx="67104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5796000" y="458136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008/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evisão 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Evolução dos recursos do SBPE para habitação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Renda média e alta</a:t>
            </a: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900000" y="1413000"/>
          <a:ext cx="828036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82803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Lei 11124/05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ia o Sistema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ia o Fundo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e as finalidades e fontes de recursos do FNHI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e as condições para estados e municípios aderirem ao SNHIS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Conselho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Fundo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utiger 55 Roman"/>
              </a:rPr>
              <a:t>Planos Estadual ou Municipal de Habitação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Integrantes do SN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Ministério das Cidades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 Gestor do Fundo Nacional de Habitação de Interesse Soci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aixa Econômica Feder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 das Cidades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nselhos, Órgãos e Instituições da Administração Pública direta e indireta dos Estados, Distrito Federal e Municípios, relacionados às questões urbanas e habitacionais,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ntidades privadas que desempenham atividades na área habitacion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gentes financeiros autorizados pelo Conselho Monetário Naciona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rincipios do SNHIS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Descentralização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Articulação entre os entes federativos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articipação e Controle Socia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Planejamento Habitacional 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Planejamento Habitacional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O que é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ara que serve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Que experiência temos no Brasil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se articula com outros planos, com o PPA e com o orçament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Qual deve ser o horizonte temporal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deve ser elaborad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implementar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omo monitorar, avaliar, rever e garantir que seja respeitado?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720" y="-273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Oficina Metodologia para elaboração d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lanos Municipais de Habitação</a:t>
            </a: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a Política e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aos planos municipais: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struindo uma estratégia para universalizar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o direito a moradia no Brasi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Prof. Dr Nabil Bonduki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FAU-USP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57" name="Picture 4" descr="logos Plano Hab"/>
          <p:cNvPicPr/>
          <p:nvPr/>
        </p:nvPicPr>
        <p:blipFill>
          <a:blip r:embed="rId1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Qual é o objetivo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Frutiger 55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Governo"/>
          <p:cNvPicPr/>
          <p:nvPr/>
        </p:nvPicPr>
        <p:blipFill>
          <a:blip r:embed="rId1"/>
          <a:stretch/>
        </p:blipFill>
        <p:spPr>
          <a:xfrm>
            <a:off x="971640" y="6396120"/>
            <a:ext cx="2249280" cy="27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LogosSNH"/>
          <p:cNvPicPr/>
          <p:nvPr/>
        </p:nvPicPr>
        <p:blipFill>
          <a:blip r:embed="rId2"/>
          <a:stretch/>
        </p:blipFill>
        <p:spPr>
          <a:xfrm>
            <a:off x="255600" y="6288120"/>
            <a:ext cx="571320" cy="453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85800" y="1828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3520" y="15238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24000" y="1268280"/>
            <a:ext cx="8748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ormular uma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estratégi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para equacionar a médio e longo prazo as necessidades habitacionais do Brasil, defini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necessários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de subsíd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has programátic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s para a Cadeia Produ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s de Política Urbana relacionada co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anjos institu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ões legai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685800" y="1828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84360" y="1773360"/>
            <a:ext cx="792468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ORIZONTE TEMPORAL DO PLANH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2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4 quadriênio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M REVISÕES A CADA 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2011, 2015 E 20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25280"/>
            <a:ext cx="91440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ASSOS PARA ELABORAÇÃO DO PLANO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ntextualização (leitura técnica e participativa do problema habitacional)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Levantamento e sistematização das propostas existentes, no governo e em todos os segmentos sociai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Identificação das necessidades habitacionais presentes e futuras;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Regionalização das necessidades de habitação – urbano e rural, categorias de municípios, regiõe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PASSOS PARA ELABORAÇÃO DO PLANO</a:t>
            </a:r>
            <a:endParaRPr b="0" lang="en-US" sz="32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enários: macro-econômico, demográfico, urbano, de disponibilidade de recursos para habitação das diferentes fontes;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e grupos de atendimento, por necessidade de subsíd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tabelecimento de metas físicas e financeiras, gerais e intermediárias, para os diferentes problemas habit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Redefinição das linhas programáticas nacionai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a articulação com a questão urbana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os arranjos institucionais e articulação dos entes federativos;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efinição do Plano de 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Propostas que viabilizem a estratégia defini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Frutiger 55 Roman"/>
              </a:rPr>
              <a:t>PROCESSO PARTICIPATIVO DE ELABORAÇÃO DO PLANO NACIONAL DE HABITAÇÃO </a:t>
            </a:r>
            <a:endParaRPr b="0" lang="en-US" sz="40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700360" y="26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55640" y="1333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4 e 05 de outubro de 2007 – Região Centro-Oeste e Estado do Tocan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979640" y="43578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7 e 18 de outubro de 2007 – Região Sud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-108000" y="1773360"/>
            <a:ext cx="9288360" cy="2160360"/>
            <a:chOff x="-108000" y="1773360"/>
            <a:chExt cx="9288360" cy="2160360"/>
          </a:xfrm>
        </p:grpSpPr>
        <p:pic>
          <p:nvPicPr>
            <p:cNvPr id="119" name="Picture 6" descr="PlanHabFotoCentroOeste06"/>
            <p:cNvPicPr/>
            <p:nvPr/>
          </p:nvPicPr>
          <p:blipFill>
            <a:blip r:embed="rId1"/>
            <a:stretch/>
          </p:blipFill>
          <p:spPr>
            <a:xfrm>
              <a:off x="-108000" y="1773360"/>
              <a:ext cx="32767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7" descr="PlanHabFotoCentroOeste05"/>
            <p:cNvPicPr/>
            <p:nvPr/>
          </p:nvPicPr>
          <p:blipFill>
            <a:blip r:embed="rId2"/>
            <a:stretch/>
          </p:blipFill>
          <p:spPr>
            <a:xfrm>
              <a:off x="3132000" y="1773360"/>
              <a:ext cx="288000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PlanHabFotoCentroOeste01"/>
            <p:cNvPicPr/>
            <p:nvPr/>
          </p:nvPicPr>
          <p:blipFill>
            <a:blip r:embed="rId3"/>
            <a:stretch/>
          </p:blipFill>
          <p:spPr>
            <a:xfrm>
              <a:off x="5951520" y="1773360"/>
              <a:ext cx="322884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9"/>
          <p:cNvGrpSpPr/>
          <p:nvPr/>
        </p:nvGrpSpPr>
        <p:grpSpPr>
          <a:xfrm>
            <a:off x="-103320" y="4869000"/>
            <a:ext cx="9283680" cy="2160360"/>
            <a:chOff x="-103320" y="4869000"/>
            <a:chExt cx="9283680" cy="2160360"/>
          </a:xfrm>
        </p:grpSpPr>
        <p:pic>
          <p:nvPicPr>
            <p:cNvPr id="123" name="Picture 10" descr="PlanhabFotoSudeste4G"/>
            <p:cNvPicPr/>
            <p:nvPr/>
          </p:nvPicPr>
          <p:blipFill>
            <a:blip r:embed="rId4"/>
            <a:stretch/>
          </p:blipFill>
          <p:spPr>
            <a:xfrm>
              <a:off x="-103320" y="4869000"/>
              <a:ext cx="3235320" cy="21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1" descr="PlanHabFotoSudeste02"/>
            <p:cNvPicPr/>
            <p:nvPr/>
          </p:nvPicPr>
          <p:blipFill>
            <a:blip r:embed="rId5"/>
            <a:stretch/>
          </p:blipFill>
          <p:spPr>
            <a:xfrm>
              <a:off x="3132000" y="4869000"/>
              <a:ext cx="288000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2" descr="IMG007"/>
            <p:cNvPicPr/>
            <p:nvPr/>
          </p:nvPicPr>
          <p:blipFill>
            <a:blip r:embed="rId6"/>
            <a:stretch/>
          </p:blipFill>
          <p:spPr>
            <a:xfrm>
              <a:off x="5977080" y="4869000"/>
              <a:ext cx="3203280" cy="216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700360" y="26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20720" y="14778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 de outubro e 01 de novembro de 2007 – Região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979640" y="42861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 e 07 de novembro de 2007 – Região Nord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-252360" y="1989000"/>
            <a:ext cx="9575640" cy="2160720"/>
            <a:chOff x="-252360" y="1989000"/>
            <a:chExt cx="9575640" cy="2160720"/>
          </a:xfrm>
        </p:grpSpPr>
        <p:pic>
          <p:nvPicPr>
            <p:cNvPr id="130" name="Picture 6" descr="DSC01049"/>
            <p:cNvPicPr/>
            <p:nvPr/>
          </p:nvPicPr>
          <p:blipFill>
            <a:blip r:embed="rId1"/>
            <a:stretch/>
          </p:blipFill>
          <p:spPr>
            <a:xfrm>
              <a:off x="2771640" y="1989000"/>
              <a:ext cx="359892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" descr="DSC01040"/>
            <p:cNvPicPr/>
            <p:nvPr/>
          </p:nvPicPr>
          <p:blipFill>
            <a:blip r:embed="rId2"/>
            <a:stretch/>
          </p:blipFill>
          <p:spPr>
            <a:xfrm>
              <a:off x="-252360" y="1989000"/>
              <a:ext cx="3198600" cy="21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8" descr="DSC01056"/>
            <p:cNvPicPr/>
            <p:nvPr/>
          </p:nvPicPr>
          <p:blipFill>
            <a:blip r:embed="rId3"/>
            <a:stretch/>
          </p:blipFill>
          <p:spPr>
            <a:xfrm>
              <a:off x="6012000" y="1989000"/>
              <a:ext cx="331128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9"/>
          <p:cNvGrpSpPr/>
          <p:nvPr/>
        </p:nvGrpSpPr>
        <p:grpSpPr>
          <a:xfrm>
            <a:off x="-318960" y="4797360"/>
            <a:ext cx="9566280" cy="2160720"/>
            <a:chOff x="-318960" y="4797360"/>
            <a:chExt cx="9566280" cy="2160720"/>
          </a:xfrm>
        </p:grpSpPr>
        <p:pic>
          <p:nvPicPr>
            <p:cNvPr id="134" name="Picture 10" descr="PlanHabFotoNordeste02"/>
            <p:cNvPicPr/>
            <p:nvPr/>
          </p:nvPicPr>
          <p:blipFill>
            <a:blip r:embed="rId4"/>
            <a:stretch/>
          </p:blipFill>
          <p:spPr>
            <a:xfrm>
              <a:off x="2849400" y="4797360"/>
              <a:ext cx="32353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1" descr="PlanHabFotoNordeste06"/>
            <p:cNvPicPr/>
            <p:nvPr/>
          </p:nvPicPr>
          <p:blipFill>
            <a:blip r:embed="rId5"/>
            <a:stretch/>
          </p:blipFill>
          <p:spPr>
            <a:xfrm>
              <a:off x="-318960" y="4799160"/>
              <a:ext cx="32353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" descr="PlanHabFotoNordeste04"/>
            <p:cNvPicPr/>
            <p:nvPr/>
          </p:nvPicPr>
          <p:blipFill>
            <a:blip r:embed="rId6"/>
            <a:stretch/>
          </p:blipFill>
          <p:spPr>
            <a:xfrm>
              <a:off x="6012000" y="4797360"/>
              <a:ext cx="3235320" cy="215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700360" y="549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minários Reg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42920" y="1341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7 e 18 de dezembro de 2007 – Região Norte e Estado do Maranhão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-103320" y="1844640"/>
            <a:ext cx="9423360" cy="2162160"/>
            <a:chOff x="-103320" y="1844640"/>
            <a:chExt cx="9423360" cy="216216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3065400" y="1844640"/>
              <a:ext cx="32353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2"/>
            <a:stretch/>
          </p:blipFill>
          <p:spPr>
            <a:xfrm>
              <a:off x="-103320" y="1844640"/>
              <a:ext cx="323532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"/>
            <p:cNvPicPr/>
            <p:nvPr/>
          </p:nvPicPr>
          <p:blipFill>
            <a:blip r:embed="rId3"/>
            <a:stretch/>
          </p:blipFill>
          <p:spPr>
            <a:xfrm>
              <a:off x="6084720" y="1846080"/>
              <a:ext cx="3235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589040"/>
            <a:ext cx="88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ficina sobre o Plano Nacional de Habitação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ferência Nacional das 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ubro de 2007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0" y="3908520"/>
            <a:ext cx="9143640" cy="2949120"/>
            <a:chOff x="0" y="3908520"/>
            <a:chExt cx="9143640" cy="2949120"/>
          </a:xfrm>
        </p:grpSpPr>
        <p:pic>
          <p:nvPicPr>
            <p:cNvPr id="145" name="Picture 4" descr="Abertura5"/>
            <p:cNvPicPr/>
            <p:nvPr/>
          </p:nvPicPr>
          <p:blipFill>
            <a:blip r:embed="rId1"/>
            <a:stretch/>
          </p:blipFill>
          <p:spPr>
            <a:xfrm>
              <a:off x="2882880" y="3908520"/>
              <a:ext cx="3163680" cy="29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Abertura1"/>
            <p:cNvPicPr/>
            <p:nvPr/>
          </p:nvPicPr>
          <p:blipFill>
            <a:blip r:embed="rId2"/>
            <a:stretch/>
          </p:blipFill>
          <p:spPr>
            <a:xfrm>
              <a:off x="0" y="3908520"/>
              <a:ext cx="3095280" cy="29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GT1"/>
            <p:cNvPicPr/>
            <p:nvPr/>
          </p:nvPicPr>
          <p:blipFill>
            <a:blip r:embed="rId3"/>
            <a:stretch/>
          </p:blipFill>
          <p:spPr>
            <a:xfrm>
              <a:off x="5979960" y="3908520"/>
              <a:ext cx="3163680" cy="29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7" descr="DSC_0193"/>
          <p:cNvPicPr/>
          <p:nvPr/>
        </p:nvPicPr>
        <p:blipFill>
          <a:blip r:embed="rId4"/>
          <a:stretch/>
        </p:blipFill>
        <p:spPr>
          <a:xfrm>
            <a:off x="3130560" y="3902040"/>
            <a:ext cx="2881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>
            <a:hlinkClick r:id="" action="ppaction://hlinkshowjump?jump=nextslide"/>
          </p:cNvPr>
          <p:cNvSpPr/>
          <p:nvPr/>
        </p:nvSpPr>
        <p:spPr>
          <a:xfrm>
            <a:off x="-36360" y="1152360"/>
            <a:ext cx="9144000" cy="58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radia digna como direito e vetor de inclusão soci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ndo padrão mínimo de qualidade, infra-estrutura básica, transporte coletivo e serviços 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social da propriedade urba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ndo implementar instrumentos de reforma urbana para combater a especulação e garantir acesso a terra urban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ão Habitacional como uma Política de Estad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público é agente indispensáve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regulação urbana e do mercado imobiliário, na provisão da moradia e na regularização de assentamentos prec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democráti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participação popular, controle social e transparência nas decisões e proced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ordinação das ações em habitação à política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458136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8360" y="515772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2278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incípios da Nova Política Nacional de Habi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68360" y="262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uniões com os se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83196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5 de fevereiro de 2008 – Entidades acadêmicas, profissionais e O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-181080" y="1343160"/>
            <a:ext cx="9433080" cy="2157120"/>
            <a:chOff x="-181080" y="1343160"/>
            <a:chExt cx="9433080" cy="2157120"/>
          </a:xfrm>
        </p:grpSpPr>
        <p:pic>
          <p:nvPicPr>
            <p:cNvPr id="152" name="Picture 5" descr="IMG_0475"/>
            <p:cNvPicPr/>
            <p:nvPr/>
          </p:nvPicPr>
          <p:blipFill>
            <a:blip r:embed="rId1"/>
            <a:stretch/>
          </p:blipFill>
          <p:spPr>
            <a:xfrm>
              <a:off x="284328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IMG_0515"/>
            <p:cNvPicPr/>
            <p:nvPr/>
          </p:nvPicPr>
          <p:blipFill>
            <a:blip r:embed="rId2"/>
            <a:stretch/>
          </p:blipFill>
          <p:spPr>
            <a:xfrm>
              <a:off x="601344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IMG_0452t"/>
            <p:cNvPicPr/>
            <p:nvPr/>
          </p:nvPicPr>
          <p:blipFill>
            <a:blip r:embed="rId3"/>
            <a:stretch/>
          </p:blipFill>
          <p:spPr>
            <a:xfrm>
              <a:off x="-181080" y="1343160"/>
              <a:ext cx="3238560" cy="21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8"/>
          <p:cNvSpPr/>
          <p:nvPr/>
        </p:nvSpPr>
        <p:spPr>
          <a:xfrm>
            <a:off x="1044720" y="407052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6 de fevereiro de 2008 – Poder Público Estadual e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-181080" y="4799160"/>
            <a:ext cx="9431280" cy="2158920"/>
            <a:chOff x="-181080" y="4799160"/>
            <a:chExt cx="9431280" cy="2158920"/>
          </a:xfrm>
        </p:grpSpPr>
        <p:pic>
          <p:nvPicPr>
            <p:cNvPr id="157" name="Picture 10" descr="IMG_0629"/>
            <p:cNvPicPr/>
            <p:nvPr/>
          </p:nvPicPr>
          <p:blipFill>
            <a:blip r:embed="rId4"/>
            <a:stretch/>
          </p:blipFill>
          <p:spPr>
            <a:xfrm>
              <a:off x="2917800" y="479916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IMG_0580t"/>
            <p:cNvPicPr/>
            <p:nvPr/>
          </p:nvPicPr>
          <p:blipFill>
            <a:blip r:embed="rId5"/>
            <a:stretch/>
          </p:blipFill>
          <p:spPr>
            <a:xfrm>
              <a:off x="-181080" y="479916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2" descr="IMG_0597t"/>
            <p:cNvPicPr/>
            <p:nvPr/>
          </p:nvPicPr>
          <p:blipFill>
            <a:blip r:embed="rId6"/>
            <a:stretch/>
          </p:blipFill>
          <p:spPr>
            <a:xfrm>
              <a:off x="6012000" y="4799160"/>
              <a:ext cx="3238200" cy="215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411280" y="8301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7 de fevereiro de 2008 – Empresá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-324000" y="-100080"/>
            <a:ext cx="9574200" cy="2160720"/>
            <a:chOff x="-324000" y="-100080"/>
            <a:chExt cx="9574200" cy="2160720"/>
          </a:xfrm>
        </p:grpSpPr>
        <p:pic>
          <p:nvPicPr>
            <p:cNvPr id="162" name="Picture 4" descr="IMG_0880t"/>
            <p:cNvPicPr/>
            <p:nvPr/>
          </p:nvPicPr>
          <p:blipFill>
            <a:blip r:embed="rId1"/>
            <a:stretch/>
          </p:blipFill>
          <p:spPr>
            <a:xfrm>
              <a:off x="2843280" y="-100080"/>
              <a:ext cx="330048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" descr="IMG_0767t"/>
            <p:cNvPicPr/>
            <p:nvPr/>
          </p:nvPicPr>
          <p:blipFill>
            <a:blip r:embed="rId2"/>
            <a:stretch/>
          </p:blipFill>
          <p:spPr>
            <a:xfrm>
              <a:off x="-324000" y="-98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" descr="IMG_0897t"/>
            <p:cNvPicPr/>
            <p:nvPr/>
          </p:nvPicPr>
          <p:blipFill>
            <a:blip r:embed="rId3"/>
            <a:stretch/>
          </p:blipFill>
          <p:spPr>
            <a:xfrm>
              <a:off x="6012000" y="-100080"/>
              <a:ext cx="3238200" cy="21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7"/>
          <p:cNvGrpSpPr/>
          <p:nvPr/>
        </p:nvGrpSpPr>
        <p:grpSpPr>
          <a:xfrm>
            <a:off x="-322200" y="4724280"/>
            <a:ext cx="9574200" cy="2160720"/>
            <a:chOff x="-322200" y="4724280"/>
            <a:chExt cx="9574200" cy="2160720"/>
          </a:xfrm>
        </p:grpSpPr>
        <p:pic>
          <p:nvPicPr>
            <p:cNvPr id="166" name="Picture 8" descr="IMG_1137t"/>
            <p:cNvPicPr/>
            <p:nvPr/>
          </p:nvPicPr>
          <p:blipFill>
            <a:blip r:embed="rId4"/>
            <a:stretch/>
          </p:blipFill>
          <p:spPr>
            <a:xfrm>
              <a:off x="2846520" y="4726080"/>
              <a:ext cx="323820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9" descr="IMG_1055t"/>
            <p:cNvPicPr/>
            <p:nvPr/>
          </p:nvPicPr>
          <p:blipFill>
            <a:blip r:embed="rId5"/>
            <a:stretch/>
          </p:blipFill>
          <p:spPr>
            <a:xfrm>
              <a:off x="-322200" y="4724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" descr="IMG_1154t"/>
            <p:cNvPicPr/>
            <p:nvPr/>
          </p:nvPicPr>
          <p:blipFill>
            <a:blip r:embed="rId6"/>
            <a:stretch/>
          </p:blipFill>
          <p:spPr>
            <a:xfrm>
              <a:off x="6013440" y="4724280"/>
              <a:ext cx="3238560" cy="21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11"/>
          <p:cNvSpPr/>
          <p:nvPr/>
        </p:nvSpPr>
        <p:spPr>
          <a:xfrm>
            <a:off x="2268360" y="26114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uniões com os segmentos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63640" y="356544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 de fevereiro de 2008 – Movimentos Populares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484360" y="4698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9 de fevereiro de 2008 – Sindic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268360" y="44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Reuniões com os seg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-181080" y="-27000"/>
            <a:ext cx="9595080" cy="2160720"/>
            <a:chOff x="-181080" y="-27000"/>
            <a:chExt cx="9595080" cy="2160720"/>
          </a:xfrm>
        </p:grpSpPr>
        <p:pic>
          <p:nvPicPr>
            <p:cNvPr id="174" name="Picture 5" descr="IMG_1298"/>
            <p:cNvPicPr/>
            <p:nvPr/>
          </p:nvPicPr>
          <p:blipFill>
            <a:blip r:embed="rId1"/>
            <a:stretch/>
          </p:blipFill>
          <p:spPr>
            <a:xfrm>
              <a:off x="2989440" y="-27000"/>
              <a:ext cx="323820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IMG_1281t"/>
            <p:cNvPicPr/>
            <p:nvPr/>
          </p:nvPicPr>
          <p:blipFill>
            <a:blip r:embed="rId2"/>
            <a:stretch/>
          </p:blipFill>
          <p:spPr>
            <a:xfrm>
              <a:off x="-181080" y="-27000"/>
              <a:ext cx="328608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IMG_1299t"/>
            <p:cNvPicPr/>
            <p:nvPr/>
          </p:nvPicPr>
          <p:blipFill>
            <a:blip r:embed="rId3"/>
            <a:stretch/>
          </p:blipFill>
          <p:spPr>
            <a:xfrm>
              <a:off x="6084720" y="-27000"/>
              <a:ext cx="3329280" cy="21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8"/>
          <p:cNvSpPr/>
          <p:nvPr/>
        </p:nvSpPr>
        <p:spPr>
          <a:xfrm>
            <a:off x="1258920" y="37101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8 de março de 2008 – Custos e tipologias habit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914560" y="314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ficina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-108000" y="4724280"/>
            <a:ext cx="9477360" cy="2160720"/>
            <a:chOff x="-108000" y="4724280"/>
            <a:chExt cx="9477360" cy="2160720"/>
          </a:xfrm>
        </p:grpSpPr>
        <p:pic>
          <p:nvPicPr>
            <p:cNvPr id="180" name="Picture 11" descr="DSC00031"/>
            <p:cNvPicPr/>
            <p:nvPr/>
          </p:nvPicPr>
          <p:blipFill>
            <a:blip r:embed="rId4"/>
            <a:stretch/>
          </p:blipFill>
          <p:spPr>
            <a:xfrm>
              <a:off x="2484360" y="4724280"/>
              <a:ext cx="42609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DSC00030"/>
            <p:cNvPicPr/>
            <p:nvPr/>
          </p:nvPicPr>
          <p:blipFill>
            <a:blip r:embed="rId5"/>
            <a:stretch/>
          </p:blipFill>
          <p:spPr>
            <a:xfrm>
              <a:off x="-108000" y="4724280"/>
              <a:ext cx="287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3" descr="DSC00044"/>
            <p:cNvPicPr/>
            <p:nvPr/>
          </p:nvPicPr>
          <p:blipFill>
            <a:blip r:embed="rId6"/>
            <a:stretch/>
          </p:blipFill>
          <p:spPr>
            <a:xfrm>
              <a:off x="6012000" y="4724280"/>
              <a:ext cx="33573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763640" y="120492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6 de março de 2008 – A questão urbana e fundi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914560" y="18900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ficina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95280" y="37767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8 de março de 2008 – Custos de urbanização de assentamentos prec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0" y="4143240"/>
            <a:ext cx="9143280" cy="2925360"/>
            <a:chOff x="0" y="4143240"/>
            <a:chExt cx="9143280" cy="2925360"/>
          </a:xfrm>
        </p:grpSpPr>
        <p:pic>
          <p:nvPicPr>
            <p:cNvPr id="187" name="Picture 6" descr="MinCidades 031"/>
            <p:cNvPicPr/>
            <p:nvPr/>
          </p:nvPicPr>
          <p:blipFill>
            <a:blip r:embed="rId1"/>
            <a:stretch/>
          </p:blipFill>
          <p:spPr>
            <a:xfrm>
              <a:off x="0" y="4143240"/>
              <a:ext cx="457164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7" descr="MinCidades 056"/>
            <p:cNvPicPr/>
            <p:nvPr/>
          </p:nvPicPr>
          <p:blipFill>
            <a:blip r:embed="rId2"/>
            <a:stretch/>
          </p:blipFill>
          <p:spPr>
            <a:xfrm>
              <a:off x="4571640" y="4143240"/>
              <a:ext cx="4571640" cy="29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8"/>
          <p:cNvGrpSpPr/>
          <p:nvPr/>
        </p:nvGrpSpPr>
        <p:grpSpPr>
          <a:xfrm>
            <a:off x="-298440" y="1697040"/>
            <a:ext cx="9442440" cy="2160720"/>
            <a:chOff x="-298440" y="1697040"/>
            <a:chExt cx="9442440" cy="2160720"/>
          </a:xfrm>
        </p:grpSpPr>
        <p:pic>
          <p:nvPicPr>
            <p:cNvPr id="190" name="Picture 9" descr="DSC00010"/>
            <p:cNvPicPr/>
            <p:nvPr/>
          </p:nvPicPr>
          <p:blipFill>
            <a:blip r:embed="rId3"/>
            <a:stretch/>
          </p:blipFill>
          <p:spPr>
            <a:xfrm>
              <a:off x="2799000" y="1697040"/>
              <a:ext cx="314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0" descr="DSC00034"/>
            <p:cNvPicPr/>
            <p:nvPr/>
          </p:nvPicPr>
          <p:blipFill>
            <a:blip r:embed="rId4"/>
            <a:stretch/>
          </p:blipFill>
          <p:spPr>
            <a:xfrm>
              <a:off x="-298440" y="1697040"/>
              <a:ext cx="314964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1" descr="DSC00067"/>
            <p:cNvPicPr/>
            <p:nvPr/>
          </p:nvPicPr>
          <p:blipFill>
            <a:blip r:embed="rId5"/>
            <a:stretch/>
          </p:blipFill>
          <p:spPr>
            <a:xfrm>
              <a:off x="5894640" y="1697040"/>
              <a:ext cx="324936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2286000"/>
            <a:ext cx="770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79280" y="563400"/>
            <a:ext cx="8610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ndências e cenários 2008-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macro-econômico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rescimento econômico (PIB), evolução de distribuição de renda, receita tributária e das principais  fontes de recursos onerosos para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de necessidades habitacionai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atificação por tipos de municípios, ren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ários de evolução do custo de habi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erra, prod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ão urba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ocalização da moradia, acesso a terra, qualificação da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eia produtiva da construção civi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ateriais, produtividade do setor, qualificação técnica e da mão de ob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Cenários macro-econômicos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rescimento do PIB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dotado cenário realista – </a:t>
            </a: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4% ao ano no período</a:t>
            </a: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nalisado o cenário pessimista – 2,5% ao an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Taxa Básica de Juros (Selic) em queda – estabiliza em 4,5% real (descontada a inflação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carga tributária nos níveis atuais (35,9%)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Analisado o cenário de redução da carga tributári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ontinuidade na melhoria da renda dos setores mais pobres 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Distribuição da população por faixa de renda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Frutiger-Bold"/>
              </a:rPr>
              <a:t>em Reais (%)</a:t>
            </a:r>
            <a:endParaRPr b="0" lang="en-US" sz="32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4000" y="1955880"/>
          <a:ext cx="8570880" cy="3274920"/>
        </p:xfrm>
        <a:graphic>
          <a:graphicData uri="http://schemas.openxmlformats.org/drawingml/2006/table">
            <a:tbl>
              <a:tblPr/>
              <a:tblGrid>
                <a:gridCol w="1192680"/>
                <a:gridCol w="1335600"/>
                <a:gridCol w="1051560"/>
                <a:gridCol w="1195920"/>
                <a:gridCol w="1192680"/>
                <a:gridCol w="1194480"/>
                <a:gridCol w="1192680"/>
                <a:gridCol w="216000"/>
              </a:tblGrid>
              <a:tr h="137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Até R$ 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01 a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200 a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Mais de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1555920"/>
            <a:ext cx="91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074600"/>
          <a:ext cx="9144000" cy="3297240"/>
        </p:xfrm>
        <a:graphic>
          <a:graphicData uri="http://schemas.openxmlformats.org/drawingml/2006/table">
            <a:tbl>
              <a:tblPr/>
              <a:tblGrid>
                <a:gridCol w="1908000"/>
                <a:gridCol w="1540080"/>
                <a:gridCol w="1411200"/>
                <a:gridCol w="1513080"/>
                <a:gridCol w="1439640"/>
                <a:gridCol w="133200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Especifica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ç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 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D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ficit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  </a:t>
                      </a: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Acumulad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05-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10-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15-2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ffffff"/>
                          </a:solidFill>
                          <a:latin typeface="Frutiger 55 Roman"/>
                        </a:rPr>
                        <a:t>2005-20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nidades Nov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902.6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8.447.7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6.908.4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.273.54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.629.7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Urbaniza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ão assentamentos prec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ri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25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arência de infra-estrutu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9.83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CaixaDeTexto 3"/>
          <p:cNvSpPr/>
          <p:nvPr/>
        </p:nvSpPr>
        <p:spPr>
          <a:xfrm>
            <a:off x="-720" y="4565520"/>
            <a:ext cx="6459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éficit habitacional Urb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: Dados básicos: IBGE – PNAD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Elaboração: Fundação João Pinheiro – déficit habitacional no Brasil 2005 – Mcid – SN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Assentamentos Pr´carios – Cálculo Centro de Estudos da Metropole - C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Projeções das Demandas Demográficas Futu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s: IBGE, Censo Demográfico 1991 e 2000; MS/SVS/DASIS, SIM 1999 a 2001; U.S. Bureau of the Cens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Elaboração: CEDEPLAR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ixaDeTexto 3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  <a:ea typeface="Arial"/>
              </a:rPr>
              <a:t>Cenário de necessidades habitacionais atual e demanda demográfica 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8900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50920" y="115920"/>
            <a:ext cx="2736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987640" y="25560"/>
            <a:ext cx="673416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0"/>
            <a:ext cx="3348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4920" y="0"/>
            <a:ext cx="3313080" cy="70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s A, B, C, D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nicípios com alto déficit habitacional absoluto e altas taxas de cres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75 municípios em RM’s, aglomerações e com + de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centram 46% do déficit habitacional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a taxa de crescimento populacional, que se concentram nas periferi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cresceram 30% entre 1991 e 2000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492360" y="5948280"/>
            <a:ext cx="71640" cy="730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492360" y="616428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3492360" y="6308640"/>
            <a:ext cx="71640" cy="7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492360" y="6524640"/>
            <a:ext cx="7164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3492360" y="6740640"/>
            <a:ext cx="7164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124000" y="270720"/>
            <a:ext cx="50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bjetivos gerais da P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95280" y="16689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âmbito dos objetivos estratégicos do governo, a Política Nacional de Habitação deve perseguir dois objetiv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versalizar o acesso à moradia digna num prazo a ser definido no Plano Nacional de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r empregos e renda dinamizando a econo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012000" y="1874880"/>
            <a:ext cx="3168360" cy="292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6192720" y="-531720"/>
            <a:ext cx="3132360" cy="2798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-415800"/>
            <a:ext cx="6227640" cy="727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73080" y="4602240"/>
            <a:ext cx="62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H – Centros urbanos em espaços rurais pobres e estagn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 20 a 100 mil ha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aixa taxa de urbanização (54,6%); alto déficit habitacional relativo, aacom concentração na zona rural (46,6%) Baixa capacidade para enfrentamento do dé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6156360" y="454176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0" y="-6480"/>
            <a:ext cx="66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F – Centros urbanos em espaços rurais prósperos de 20 a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a taxa de urbanização, crescimento moderado e baixa precariedade. Prósperos, situados nas micro-regiões mais ricas do país, tem mais condições de enfrentar o déficit com recursos próp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2276640"/>
            <a:ext cx="6227640" cy="23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08000" y="2276640"/>
            <a:ext cx="6264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G – Centros urbanos em espaços rurais consolidados de 20 a 100 mil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íveis moderados de precariedade e pobreza, regiões de ocupação consolidada, com relativa estagn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804000" y="1197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80400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804000" y="61009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enos_de_20mil_paint"/>
          <p:cNvPicPr/>
          <p:nvPr/>
        </p:nvPicPr>
        <p:blipFill>
          <a:blip r:embed="rId1"/>
          <a:srcRect l="0" t="8872" r="0" b="0"/>
          <a:stretch/>
        </p:blipFill>
        <p:spPr>
          <a:xfrm>
            <a:off x="1185840" y="-27000"/>
            <a:ext cx="8642520" cy="550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menos_de_20mil_NE-CO_paint"/>
          <p:cNvPicPr/>
          <p:nvPr/>
        </p:nvPicPr>
        <p:blipFill>
          <a:blip r:embed="rId2"/>
          <a:srcRect l="1961" t="9408" r="1961" b="1304"/>
          <a:stretch/>
        </p:blipFill>
        <p:spPr>
          <a:xfrm>
            <a:off x="1116000" y="3284640"/>
            <a:ext cx="8496360" cy="53607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0" y="27000"/>
            <a:ext cx="169236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003640" y="-243000"/>
            <a:ext cx="1368720" cy="856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 flipH="1">
            <a:off x="35640" y="2160720"/>
            <a:ext cx="142920" cy="188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108000" y="450864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 flipH="1">
            <a:off x="107280" y="189000"/>
            <a:ext cx="144360" cy="144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0" y="144360"/>
            <a:ext cx="1692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prósper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-36360" y="4437000"/>
            <a:ext cx="16189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K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pobres de pouca densidade 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788000" y="549360"/>
            <a:ext cx="18000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819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unicíp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om menos de 20 mil hab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5,84% do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éficit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8,5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popul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0% do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éficit rur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1916280"/>
            <a:ext cx="1692360" cy="22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-36360" y="1844640"/>
            <a:ext cx="18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p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paços rurais consoli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"/>
          <p:cNvSpPr/>
          <p:nvPr/>
        </p:nvSpPr>
        <p:spPr>
          <a:xfrm>
            <a:off x="71280" y="2133720"/>
            <a:ext cx="17964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71280" y="2421000"/>
            <a:ext cx="17964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17440" y="333360"/>
            <a:ext cx="946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Times New Roman"/>
              </a:rPr>
              <a:t>Distribuição do déficit básico por tipos de municíp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84360" y="477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4000" y="476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1844640"/>
            <a:ext cx="88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 – déficit quantitativo, qualitativo e demanda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a capacidade de pagamento das famí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 custo do be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 do financiamento em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-1189080" y="2138400"/>
            <a:ext cx="943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as principais fontes de financiamento hoje disponíveis: FNHIS, FGTS e SB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r um modelo de garantias e seg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um novo modelo de subsí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178720" y="-100080"/>
            <a:ext cx="4917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nanciamento e Subsíd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1592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trizes para equacionar o Financ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619280" y="15573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24000" y="1407960"/>
            <a:ext cx="813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o nas fonte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iculação FNHIS e FGTS para atendimento dos grupos prioritários das necessidades habita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otimizar e harmonizar os recursos destinados a subsí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a demanda em grupos de atend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ção – funding X grupo de atendimento (demanda solváve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antação de sistemas complementares – subsídios e Modelo de Garantia e Segu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de fonte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115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ologia – Estratificação em Grupos de 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08000" y="1141560"/>
            <a:ext cx="90360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sem renda ou com renda líquida abaixo da mínima necessária à assunção de um compromisso de retorno regular e estruturado (abaixo da linha de financiament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renda mensal que lhes permite assumir algum compromisso de pagamento mensal regular e estruturado e acessar financiamento imobiliário, mas com alto risco de crédito para os Agentes Financeiros em decorrência de suas rendas informais e reduzidas e das precárias garantias oferecidas para o financi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mílias com renda mensal que lhes permite assumir compromisso de pagamento mensal e acessar financiamento imobiliário, nem sempre suficiente para acessar uma moradia adequada e, com moderado risco de crédito para os Agentes Financei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capacidade de pagamento regular e estruturada, com plenas condições de assumirem compromisso de pagamento mensal relativo a financiamento imobiliário, em valor suficiente para acessar uma moradia adequada, desde que em condições acessíveis (perfil do FGTS), pois possuem empregos e rendas estáveis e são capazes de oferecer garantias reais para os financiamentos contraí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amílias com plena capacidade de acesso a um imóvel adequado às suas necessidades, através de esquemas de financiamento de mercado (SBPE e outr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0" y="6066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ia – Estratificação em Grupos de At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08000" y="1731960"/>
            <a:ext cx="903600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N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Mix FGTS / Desconto - FN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 FGTS / Des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FG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 SBPE /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4"/>
          <p:cNvGraphicFramePr/>
          <p:nvPr/>
        </p:nvGraphicFramePr>
        <p:xfrm>
          <a:off x="0" y="1238400"/>
          <a:ext cx="889308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8400"/>
                    <a:ext cx="889308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09480" y="21495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187280" y="1479600"/>
            <a:ext cx="763272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teórico de resultado de simulação (Estados de Custo Méd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a total de financiamento = 6,16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495360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 subsidiada e Prazo de 20 anos, sem poupança prév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187280" y="2496960"/>
            <a:ext cx="7201080" cy="3811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468360" y="44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DELAGEM DE  SUBSÍDI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Frutiger-Bold"/>
              </a:rPr>
              <a:t>Estratégia</a:t>
            </a:r>
            <a:endParaRPr b="0" lang="en-US" sz="36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Articulação entre política habitacional e políticas fundiária, de saneamento e de transporte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Fortalecer o papel do Estado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Recursos não onerosos dos 3 âmbitos de governo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Promover o atendimento à população de baixa renda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Estimular o mercado sem recursos públic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Frutiger 55 Roman"/>
              </a:rPr>
              <a:t>Expandir o crédito habitacional ampliando fontes de recurso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OGU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764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PA 2008-2011 previu grande elevação de recursos em relação aos períodos anteriores – 16 bi – 4bi/ano 0,685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enário Realista - Manutenção da % do investimento em habitação em relação ao OGU prevista no PPA 2008-11 no período 2011 a 2023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enário Otimista - Possibilidade de crescimento gradual da % no período até atingir 1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Necessidade de estabilidade, previsibilidade e planejamento das dotações orçamentárias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Vinculação da receita (?) 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826920" y="1413000"/>
          <a:ext cx="7848720" cy="3744720"/>
        </p:xfrm>
        <a:graphic>
          <a:graphicData uri="http://schemas.openxmlformats.org/drawingml/2006/table">
            <a:tbl>
              <a:tblPr/>
              <a:tblGrid>
                <a:gridCol w="4465800"/>
                <a:gridCol w="3382920"/>
              </a:tblGrid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çã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revisto (em milhõ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NH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sídio habit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zação de Assentamentos Prec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e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6.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7" name="Text Box 25"/>
          <p:cNvSpPr/>
          <p:nvPr/>
        </p:nvSpPr>
        <p:spPr>
          <a:xfrm>
            <a:off x="611280" y="1159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vestimento em habitação e urbanização de assentamentos precários previstos no PPA 2008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>
            <a:off x="826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755640" y="558972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>
            <a:off x="867564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5292720" y="50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900000" y="5157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édia anual – 2008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7885080" y="51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4.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NHIS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nário Realista – 2008 a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218268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stentação do patamar mínimo de 0,685% do OGU par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scimento médio da receita federal disponível de 4% a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nutenção da carga tributár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ão orçamentária federal = R$ 80,5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9640" y="5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NHIS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ário otimista  - 2008 a 20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68360" y="1700280"/>
            <a:ext cx="8136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remento gradual para o patamar mínimo de 1%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OGU para habitação Projeção orçamentári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deral = R$ 96,3 bilhões (aumento de 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ões orçamentárias demais 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stados = R$ 41,5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unicípios = R$ 26,6 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çamento público total estimado = R$ 164,4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lh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FGTS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97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Crescimento da receita bruta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Grande potencial para ampliação do investimento em habitação e saneamento até 2023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Dois cenários: a)209bi  b)358 bi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Tendência de queda da receita financeira e, com as regras atuais, tendência de redução do subsídi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Espaço para mobilização de recursos para subsidio no próprio fundo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Tendência de redução do custo do financiamento, ampliando as alternativas para a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Frutiger 55 Roman"/>
              </a:rPr>
              <a:t>Fundo Garantidor</a:t>
            </a:r>
            <a:r>
              <a:rPr b="0" lang="pt-BR" sz="32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977760"/>
          <a:ext cx="9144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7760"/>
                    <a:ext cx="9144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1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remissas para a construção dos cenários das fontes de recursos para habitação - SBPE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782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atratividade da poupança – 6% + TR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Manutenção da exigibilidade de aplicação em habitação – 65%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Crescimento da aplicação em habitação – 590 bi até 2023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Possibilidade de tributação sobre a rentabilidad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Frutiger 55 Roman"/>
              </a:rPr>
              <a:t>Gradativa redução das faixas de renda a ser atendidas pelo SBPE</a:t>
            </a: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116000" y="1139760"/>
          <a:ext cx="5904000" cy="5121360"/>
        </p:xfrm>
        <a:graphic>
          <a:graphicData uri="http://schemas.openxmlformats.org/drawingml/2006/table">
            <a:tbl>
              <a:tblPr/>
              <a:tblGrid>
                <a:gridCol w="725400"/>
                <a:gridCol w="1295640"/>
                <a:gridCol w="1293840"/>
                <a:gridCol w="1295280"/>
                <a:gridCol w="12938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ol. Fi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em mil 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Un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dades SFH/SB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dades SFH &lt;R$150 m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.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9.8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6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9.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.7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.7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.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.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7.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6.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.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3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.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.7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.4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.0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.9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.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.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7.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.8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5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7.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5.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.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8.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.5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2.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7.0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3.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.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.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7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3.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8.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3.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6.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5.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9.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9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3.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23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28.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92.0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118"/>
          <p:cNvSpPr/>
          <p:nvPr/>
        </p:nvSpPr>
        <p:spPr>
          <a:xfrm>
            <a:off x="1155960" y="306720"/>
            <a:ext cx="68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jeção de Recursos do SBPE – 2008 a 20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50920" y="-100440"/>
            <a:ext cx="856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as Financei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enário Realista 2008-202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em R$ bi – valores de dez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60360" y="1628640"/>
          <a:ext cx="8532720" cy="3672000"/>
        </p:xfrm>
        <a:graphic>
          <a:graphicData uri="http://schemas.openxmlformats.org/drawingml/2006/table">
            <a:tbl>
              <a:tblPr/>
              <a:tblGrid>
                <a:gridCol w="1187280"/>
                <a:gridCol w="792360"/>
                <a:gridCol w="1246320"/>
                <a:gridCol w="1074600"/>
                <a:gridCol w="1135080"/>
                <a:gridCol w="1008000"/>
                <a:gridCol w="1152720"/>
                <a:gridCol w="93636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não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erí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(P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 Desc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inan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B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08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4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2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7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6/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4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20/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6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9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2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9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2271240" y="-27360"/>
            <a:ext cx="476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as Financ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enário otimista 2008-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em R$ bi – valores de dez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341360"/>
          <a:ext cx="8459640" cy="4541760"/>
        </p:xfrm>
        <a:graphic>
          <a:graphicData uri="http://schemas.openxmlformats.org/drawingml/2006/table">
            <a:tbl>
              <a:tblPr/>
              <a:tblGrid>
                <a:gridCol w="755640"/>
                <a:gridCol w="720720"/>
                <a:gridCol w="647640"/>
                <a:gridCol w="647640"/>
                <a:gridCol w="792360"/>
                <a:gridCol w="720720"/>
                <a:gridCol w="792000"/>
                <a:gridCol w="790560"/>
                <a:gridCol w="865440"/>
                <a:gridCol w="792000"/>
                <a:gridCol w="934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não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Recursos onero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erí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r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E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Orç.M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Finan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B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si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H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Subsist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08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4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2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16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0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020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7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6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9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4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1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4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6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59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8459640" y="1341360"/>
          <a:ext cx="936720" cy="436104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7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2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1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4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15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165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de Implementação da Política Nacional de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10492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rganização e fortalecimento institucional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bilização de recursos onerosos e não onerosos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forma urban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rateamento e qualificação da produ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  <a:p>
            <a:pPr marL="603360" indent="-603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252720" y="-27360"/>
            <a:ext cx="972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Oficina Metodologia para elaboração de 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Planos Municipais de Habitação</a:t>
            </a: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Da Política e do Plano Nacional de Habitação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aos planos municipais: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construindo uma estratégia para universalizar 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o direito a moradia no Brasil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Prof. Dr Nabil Bonduki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Frutiger 55 Roman"/>
              </a:rPr>
              <a:t>FAU-USP</a:t>
            </a:r>
            <a:endParaRPr b="0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96" name="Picture 4" descr="logos Plano Hab"/>
          <p:cNvPicPr/>
          <p:nvPr/>
        </p:nvPicPr>
        <p:blipFill>
          <a:blip r:embed="rId1"/>
          <a:stretch/>
        </p:blipFill>
        <p:spPr>
          <a:xfrm>
            <a:off x="0" y="5408640"/>
            <a:ext cx="9144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Frutiger-Bold"/>
              </a:rPr>
              <a:t>Crédito para habita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Frutiger-Bold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Frutiger-Bold"/>
              </a:rPr>
              <a:t>(Por fontes de recursos – em R$ bi)</a:t>
            </a: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684360" y="4777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826920" y="442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757080" y="1884240"/>
            <a:ext cx="7560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a – déficit quantitativo, qualitativo e demanda proje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a capacidade de pagamento das famíl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 custo do bem hab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 do financiamento em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09480" y="18651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84360" y="11592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973080" y="1989000"/>
            <a:ext cx="94327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ximizar as principais fontes de financiamento hoje disponíveis: FNHIS, FGTS e SB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r um modelo de garantias e segu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um modelo de subsí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r fonte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ização da demanda em grupos de at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826920" y="1159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00000" y="1413000"/>
            <a:ext cx="76327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G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ntinuidade dos valores de repasse para Estados e municípios, prioritariamente para urbanização de assentamentos precá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posta de estruturação de um modelo de subsídios habitacionais (OGU+FGTS) objetivando alavancar a produção e o financiamento das modalidades de atendimento, especialmente para a população de baixa rend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G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 dos pilares do SFH e principal fonte para a PN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or custo de captação (TR+3%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ual saúde financeira e robustez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nte estável e sustentável de recur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duz recursos não onero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 ter seu desempenho potencializ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BP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utro pilar do SFH, complementar ao FGT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usto de captação ainda abaixo dos custos de mercado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aior volume de recurs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 ser melhor adequado à questão habitacional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ode ter seu desempenho potencializ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26920" y="115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afios para o Financiamento Habitac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8334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900000" y="2062080"/>
            <a:ext cx="763272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tibilizar a baixa capacidade de pagamento das famílias a produtos habitacionais adequados para cada região/municí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ar um sistema de subsídios eqüitativo e sustentá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cionar os casos de precariedade da garant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ir u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elo que contemp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renda familiar per capita – (impacto no comprometimento, nos subsídios, na comprovação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r soluções de escala viáveis nas Regiões Metropolitanas adensadas (exemplo típico Rio e São Pau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ar com a participação efetiva dos estados e municípios (estrutura, capacidade institucional e contrapartida financei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r as especificidades locais X modelo de operacional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685800" y="2057400"/>
            <a:ext cx="7632720" cy="34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timização, harmonização, eqüidade, sustentabilidade, transparência e monitora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r mecanismos de incentivo e pactua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ão para prom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rcerias com estados, municípios e associ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oupança pré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468360" y="8334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609480" y="26319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826920" y="1790640"/>
            <a:ext cx="77058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ficação do público alvo em Grupos de At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renda líquida abaixo da mínima necessária à assunção de um compromisso de retorno regular e estruturado (abaixo da linha de financiament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possibilidade de assumir algum compromisso de pagamento mensal regular e estruturado e acessar financiamento imobiliário, mas em valor insuficiente e com alto risco de crédito para os Agentes Financeiros, em função de suas rendas e das precárias garantias oferecidas, com necessidade de subsíd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II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Famílias com renda mensal que lhes permite assumir compromisso de pagamento mensal e acessar financiamento imobiliário, nem sempre suficiente para acessar uma moradia adequada e, com moderado risco de crédito para os Agentes Financeir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609480" y="263196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26920" y="1790640"/>
            <a:ext cx="770580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Classificação do público alvo em Grupos de At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I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capacidade de pagamento regular e estruturada, com plenas condições de assumirem compromisso de pagamento mensal relativo a financiamento imobiliário em valor suficiente e oferecerem garantias reais, desde que em condições acessíve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upo V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Famílias com plena capacidade de acesso a um imóvel adequado às suas necessidades, através de esquemas de financiamento de merc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09480" y="213984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914400" y="1828800"/>
            <a:ext cx="75596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) Estudos de tipologias de atendimento e respectivos cu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logias que variam desde a cesta de materiais e assistência técnica, com ou sem lote, até unidades prontas tanto em sistemas de auto-gestão quanto de produção privada, em áreas periféricas e centrais incluindo o retrof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5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s dos Produtos Regionaliz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)  Construção – base SINAPI (por esta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) Terreno - estudos de casos, levantamentos diversos, CAIXA (p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o de Municíp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ii) Assessoria Téc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ais custos (infra, BDI, projetos) - levantamentos diver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68360" y="6951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9280" y="1332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riação do Ministério das Cidades (1/1/2003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Instancias de controle e participação: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004760" indent="-533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onferencia Nacional das Cidades (2003 - 2005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004760" indent="-5331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onselho Nacional das Cidades (Instalado 2004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Criação do Sistema e do Fundo Nacional de Habitação de Interesse Social (Lei 11.124/05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provação do novo marco jurídico do Saneament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Implementação do Sistema Nacional de Habitaçã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lano Nacional de Habitação (em desenvolvimento)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1144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atégias para Implementação da PNH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enho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609480" y="221148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900000" y="2565360"/>
            <a:ext cx="76327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)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ção de 3 tipologias de atendimento como referência de custo regionalizada (por estado e tipo de municíp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sta de materiais para uma casa de 32 m² para área urbana e de 56 m² para área rural  + Assistência Téc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de 125 m² + Cesta (casa 32 m²) + Assistênci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tamento (45,8 m² e 8 pvtos.) em área nã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: O padrão de custo utilizado foi sempre calculado com base na produção privada. Na modalidade auto-gerida, será, provavelmente, possível produzir uma unidade ma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68360" y="9111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09480" y="2035080"/>
            <a:ext cx="80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900000" y="1727280"/>
            <a:ext cx="7632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Agrupamento dos 27 estados por similaridade de custos Sin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aix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B, RN, RO, PI, GO, MS, SE, 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édi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, BA, MA, PE, AL, PA, AM, RS, PR, SC, AC, TO, AP, DF, MG, 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to custo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P, RJ, R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916360" y="3460680"/>
            <a:ext cx="4680000" cy="27050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73120" y="24717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00000" y="2090880"/>
            <a:ext cx="755964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grupamento das 11 tipologias de municípios em 4 grupos, 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il de distribuição da população por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ção urbana e possibilidades e soluções de escala indic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RM São Paulo e Rio de Jane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e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Demais RM, aglomerados e ca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, E, F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ros regionais com + de 100 mil habitantes e cidades do centro sul com população entre 20 e 100 mil habi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a K e rura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mais municípios com menos de 100 mil e áreas r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609480" y="207180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900000" y="2340000"/>
            <a:ext cx="7632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 Simulações de financiamentos com base nos 3 padrões de referência de custo de produto para defi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s/limites de renda dos Grupos de Atendimen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zos de financiamento adequad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ometimento de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 de equilíbrio (quais a serem mantidos – spread e 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 de complemento (necessidade, com e sem poupança prévi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xas por grandes grupos de atend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09480" y="214956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971640" y="1841400"/>
            <a:ext cx="7632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resultado de simulação (Estados de Custo Médi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a total de financiamento = 6,16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49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 subsidiada e Prazo de 20 anos, sem poupança prévia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547640" y="2849400"/>
            <a:ext cx="6264360" cy="33163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1736640"/>
            <a:ext cx="90662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09480" y="203688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63640" y="1584360"/>
            <a:ext cx="91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 Definições dos Grupos de Atendi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4"/>
          <p:cNvGraphicFramePr/>
          <p:nvPr/>
        </p:nvGraphicFramePr>
        <p:xfrm>
          <a:off x="457200" y="826920"/>
          <a:ext cx="824076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26920"/>
                    <a:ext cx="824076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5"/>
          <p:cNvSpPr/>
          <p:nvPr/>
        </p:nvSpPr>
        <p:spPr>
          <a:xfrm>
            <a:off x="468360" y="55260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609480" y="2114640"/>
            <a:ext cx="806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900000" y="2124000"/>
            <a:ext cx="7632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 Definição da grade de valores de Subsíd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valor de subsídio deve viabilizar, no mínimo, a solução de Lote+Cesta+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ular a participação do mutuário por meio de contrapartida e poupança prév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s decrescentes à medida que evoluem as faixas de re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ídios variáveis por estados e municípios (custos regiona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municípios tipo A, B e C será acrescido um subsídio de localização que terá como condicionali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Contrapartida financeira do poder público estadual e/ou loc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Ocupação de áreas mais centrais e dotadas de infra-estrutura plen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) Uso das ZEIS pelo municíp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68360" y="76824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900000" y="2416320"/>
            <a:ext cx="7632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 Cálculo dos Montantes Necessários – Financiamento e Subsíd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a futura até 202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ficit acumul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dades qualitativas/urbanização de assentamentos precá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68360" y="76824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DE  SUBSÍD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Cenários de Gastos com Habitação – OGU/Repasse a estados e municípios </a:t>
            </a: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(2007-2023)</a:t>
            </a:r>
            <a:endParaRPr b="0" lang="en-US" sz="22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00000" y="1915920"/>
            <a:ext cx="76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Necessidade de estabilidade, previsibilidade e planejamento das do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õe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rias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1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Manut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da % do investimento em habi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em rel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 a receita tribu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ria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2011 a 2023 (de acordo com o PPA 2007-11)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2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Crescimento gradual da %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a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atingir 1% do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os da União, Estado e Muni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pios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lnSpc>
                <a:spcPct val="150000"/>
              </a:lnSpc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Cen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1900" spc="-1" strike="noStrike">
                <a:solidFill>
                  <a:srgbClr val="000000"/>
                </a:solidFill>
                <a:latin typeface="Frutiger 55 Roman"/>
              </a:rPr>
              <a:t>rio 3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- Crescimento gradual da % no p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odo a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 atingir 2% dos 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amentos da União, Estado e Muni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pios (PEC da Habi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900" spc="-1" strike="noStrike">
                <a:solidFill>
                  <a:srgbClr val="000000"/>
                </a:solidFill>
                <a:latin typeface="Frutiger 55 Roman"/>
              </a:rPr>
              <a:t>ão)</a:t>
            </a: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000000"/>
              </a:buClr>
              <a:buFont typeface="Frutiger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668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Estratégias para Implementação da PNH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Frutiger-Bold"/>
              </a:rPr>
              <a:t>Regulação fundiária e urbana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640" y="1481040"/>
            <a:ext cx="8991720" cy="56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, nos planos diretores e em leis complementares,  de instrumentos urbanísticos previstos no Estatuto da Cidade que combatem a especulação com terra e imóveis ociosos e ampliem a disponibilidade e barateiem o custo da terra:  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Zeis – Zonas Especiais de Interesse Social para população de baixa rend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Parcelamento e edificação compulsória e IPTU progressivo no tempo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Desenvolvimento de programas municipais de regularização da posse da terr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 55 Roman"/>
              </a:rPr>
              <a:t>Adoção de padrões para elaboração de projetos que garantam qualidade ambiental e urbanística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47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Cenários de Gastos com Habitação – OGU/Repasse a estados e municípios </a:t>
            </a: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Frutiger-Bold"/>
              </a:rPr>
              <a:t>(2007-2023)</a:t>
            </a:r>
            <a:endParaRPr b="0" lang="en-US" sz="2200" spc="-1" strike="noStrike">
              <a:solidFill>
                <a:srgbClr val="ffffff"/>
              </a:solidFill>
              <a:latin typeface="Frutiger-Bold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00000" y="2133720"/>
          <a:ext cx="7704360" cy="4060800"/>
        </p:xfrm>
        <a:graphic>
          <a:graphicData uri="http://schemas.openxmlformats.org/drawingml/2006/table">
            <a:tbl>
              <a:tblPr/>
              <a:tblGrid>
                <a:gridCol w="1925640"/>
                <a:gridCol w="1927440"/>
                <a:gridCol w="1925640"/>
                <a:gridCol w="19256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Cenári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07-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12-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16-1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020-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Tot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  <a:ea typeface="Times New Roman"/>
                        </a:rPr>
                        <a:t>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Frutiger 55 Roman"/>
                        </a:rPr>
                        <a:t>1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40"/>
          <p:cNvSpPr/>
          <p:nvPr/>
        </p:nvSpPr>
        <p:spPr>
          <a:xfrm>
            <a:off x="7167600" y="1700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b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6648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Frutiger-Bold"/>
              </a:rPr>
              <a:t>Estratégias para Implementação da PNH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Frutiger-Bold"/>
              </a:rPr>
              <a:t>Desenvolvimento Tecnológico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Frutiger-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70000" y="1471680"/>
            <a:ext cx="88390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ovação e ao desenvolvimento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moção de programas que ampliem a qualidade e a produtividade da construçã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didas que ampliem a segurança e qualificação do trabalhador da indústria  da constr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centivo a elaboração, revisão e adoção de normas técnicas e indicadores de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ecessidade de projeto básico como requisito para a implantação de empreendimentos habit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9:09:27Z</dcterms:created>
  <dc:creator>Pollini</dc:creator>
  <dc:description/>
  <dc:language>en-US</dc:language>
  <cp:lastModifiedBy>Kazuo</cp:lastModifiedBy>
  <dcterms:modified xsi:type="dcterms:W3CDTF">2008-06-19T16:02:10Z</dcterms:modified>
  <cp:revision>22</cp:revision>
  <dc:subject/>
  <dc:title>Slide 1</dc:title>
</cp:coreProperties>
</file>